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laser.wav" ContentType="audio/x-wav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5148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6172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4124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5148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6172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41240" y="6267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algn="ctr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Oval 1"/>
          <p:cNvSpPr/>
          <p:nvPr/>
        </p:nvSpPr>
        <p:spPr>
          <a:xfrm>
            <a:off x="884160" y="3017880"/>
            <a:ext cx="8131320" cy="261936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54200" y="3208320"/>
            <a:ext cx="8609040" cy="19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 Black"/>
              </a:rPr>
              <a:t>PUNTO MUERTO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Arial Black"/>
              </a:rPr>
              <a:t>O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Arial Black"/>
              </a:rPr>
              <a:t>UMBRAL DE RENTABIL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Line 4"/>
          <p:cNvSpPr/>
          <p:nvPr/>
        </p:nvSpPr>
        <p:spPr>
          <a:xfrm>
            <a:off x="1785960" y="6208560"/>
            <a:ext cx="6599160" cy="1800"/>
          </a:xfrm>
          <a:prstGeom prst="line">
            <a:avLst/>
          </a:prstGeom>
          <a:ln w="720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5"/>
          <p:cNvSpPr/>
          <p:nvPr/>
        </p:nvSpPr>
        <p:spPr>
          <a:xfrm flipH="1" flipV="1">
            <a:off x="1801440" y="2244240"/>
            <a:ext cx="12600" cy="3940200"/>
          </a:xfrm>
          <a:prstGeom prst="line">
            <a:avLst/>
          </a:prstGeom>
          <a:ln w="720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6"/>
          <p:cNvSpPr/>
          <p:nvPr/>
        </p:nvSpPr>
        <p:spPr>
          <a:xfrm>
            <a:off x="1836720" y="5170320"/>
            <a:ext cx="5681520" cy="1800"/>
          </a:xfrm>
          <a:prstGeom prst="line">
            <a:avLst/>
          </a:prstGeom>
          <a:ln w="72000">
            <a:solidFill>
              <a:srgbClr val="99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7"/>
          <p:cNvSpPr/>
          <p:nvPr/>
        </p:nvSpPr>
        <p:spPr>
          <a:xfrm flipV="1">
            <a:off x="1836720" y="2430000"/>
            <a:ext cx="5646600" cy="2724120"/>
          </a:xfrm>
          <a:prstGeom prst="line">
            <a:avLst/>
          </a:prstGeom>
          <a:ln w="72000">
            <a:solidFill>
              <a:srgbClr val="99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8"/>
          <p:cNvSpPr/>
          <p:nvPr/>
        </p:nvSpPr>
        <p:spPr>
          <a:xfrm flipV="1">
            <a:off x="1820880" y="1852560"/>
            <a:ext cx="5000760" cy="4340160"/>
          </a:xfrm>
          <a:prstGeom prst="line">
            <a:avLst/>
          </a:prstGeom>
          <a:ln w="720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6939000" y="1631880"/>
            <a:ext cx="6476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7551720" y="2244600"/>
            <a:ext cx="6476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8504280" y="6021360"/>
            <a:ext cx="6476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1582560" y="1836720"/>
            <a:ext cx="648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,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13"/>
          <p:cNvSpPr/>
          <p:nvPr/>
        </p:nvSpPr>
        <p:spPr>
          <a:xfrm>
            <a:off x="4491000" y="3860640"/>
            <a:ext cx="1800" cy="234792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4354560" y="6327720"/>
            <a:ext cx="6476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Freeform 15"/>
          <p:cNvSpPr/>
          <p:nvPr/>
        </p:nvSpPr>
        <p:spPr>
          <a:xfrm>
            <a:off x="4711680" y="1871640"/>
            <a:ext cx="2687760" cy="1854360"/>
          </a:xfrm>
          <a:prstGeom prst="pie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16"/>
          <p:cNvSpPr/>
          <p:nvPr/>
        </p:nvSpPr>
        <p:spPr>
          <a:xfrm>
            <a:off x="5851440" y="2943360"/>
            <a:ext cx="1241640" cy="663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7"/>
          <p:cNvSpPr/>
          <p:nvPr/>
        </p:nvSpPr>
        <p:spPr>
          <a:xfrm>
            <a:off x="7126200" y="3436920"/>
            <a:ext cx="27320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Times New Roman"/>
              </a:rPr>
              <a:t>Beneficios ( I  &gt; CT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18"/>
          <p:cNvSpPr/>
          <p:nvPr/>
        </p:nvSpPr>
        <p:spPr>
          <a:xfrm>
            <a:off x="4559400" y="3911760"/>
            <a:ext cx="2176200" cy="322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9"/>
          <p:cNvSpPr/>
          <p:nvPr/>
        </p:nvSpPr>
        <p:spPr>
          <a:xfrm>
            <a:off x="6854760" y="4098960"/>
            <a:ext cx="28400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44794"/>
                </a:solidFill>
                <a:latin typeface="Times New Roman"/>
              </a:rPr>
              <a:t>Punto Muer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Freeform 20"/>
          <p:cNvSpPr/>
          <p:nvPr/>
        </p:nvSpPr>
        <p:spPr>
          <a:xfrm>
            <a:off x="1836720" y="4014720"/>
            <a:ext cx="2433600" cy="2109960"/>
          </a:xfrm>
          <a:prstGeom prst="pie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21"/>
          <p:cNvSpPr/>
          <p:nvPr/>
        </p:nvSpPr>
        <p:spPr>
          <a:xfrm flipH="1" flipV="1">
            <a:off x="2260080" y="3331800"/>
            <a:ext cx="258840" cy="1755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22"/>
          <p:cNvSpPr/>
          <p:nvPr/>
        </p:nvSpPr>
        <p:spPr>
          <a:xfrm>
            <a:off x="2244600" y="2909880"/>
            <a:ext cx="25354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66"/>
                </a:solidFill>
                <a:latin typeface="Times New Roman"/>
              </a:rPr>
              <a:t>Pérdidas ( I &lt; CT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08120" y="630360"/>
            <a:ext cx="8609040" cy="64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 Black"/>
              </a:rPr>
              <a:t>REPRESENTACIÓN GRÁFICA DEL PUNTO MUER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Oval 1"/>
          <p:cNvSpPr/>
          <p:nvPr/>
        </p:nvSpPr>
        <p:spPr>
          <a:xfrm>
            <a:off x="884160" y="1565280"/>
            <a:ext cx="1990800" cy="561960"/>
          </a:xfrm>
          <a:prstGeom prst="ellipse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2"/>
          <p:cNvSpPr/>
          <p:nvPr/>
        </p:nvSpPr>
        <p:spPr>
          <a:xfrm>
            <a:off x="527040" y="2279520"/>
            <a:ext cx="9083520" cy="3726000"/>
          </a:xfrm>
          <a:prstGeom prst="roundRect">
            <a:avLst>
              <a:gd name="adj" fmla="val 42"/>
            </a:avLst>
          </a:prstGeom>
          <a:solidFill>
            <a:srgbClr val="ffff99"/>
          </a:solidFill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713880" y="2142720"/>
            <a:ext cx="865188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Una empresa fabrica teléfonos móviles y desea conocer la cantidad que ha de vender para no perder dinero. Las </a:t>
            </a:r>
            <a:r>
              <a:rPr b="1" lang="en-GB" sz="3200" spc="-1" strike="noStrike">
                <a:solidFill>
                  <a:srgbClr val="0000ff"/>
                </a:solidFill>
                <a:latin typeface="Times New Roman"/>
              </a:rPr>
              <a:t>instalaciones, maquinaria y mobiliario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suponen unos costes de 750.000 euros, y </a:t>
            </a:r>
            <a:r>
              <a:rPr b="1" lang="en-GB" sz="3200" spc="-1" strike="noStrike">
                <a:solidFill>
                  <a:srgbClr val="ff00ff"/>
                </a:solidFill>
                <a:latin typeface="Times New Roman"/>
              </a:rPr>
              <a:t>fabricar cada terminal movil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se hace con un coste de 220 euros. Los teléfonos móviles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se venden a un precio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de 270 eur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708120" y="630360"/>
            <a:ext cx="8609040" cy="64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 Black"/>
              </a:rPr>
              <a:t>EJEMPLO PARA EL CÁLCULO DEL PUNTO MUER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206280" y="565200"/>
            <a:ext cx="9498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1173240" y="1633680"/>
            <a:ext cx="2006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EJEMPL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AutoShape 1"/>
          <p:cNvSpPr/>
          <p:nvPr/>
        </p:nvSpPr>
        <p:spPr>
          <a:xfrm>
            <a:off x="1089000" y="5664240"/>
            <a:ext cx="8012160" cy="1123920"/>
          </a:xfrm>
          <a:prstGeom prst="roundRect">
            <a:avLst>
              <a:gd name="adj" fmla="val 15958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08120" y="630360"/>
            <a:ext cx="8609040" cy="64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 Black"/>
              </a:rPr>
              <a:t>EJEMPLO PARA EL CÁLCULO DEL PUNTO MUER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5"/>
          <p:cNvSpPr/>
          <p:nvPr/>
        </p:nvSpPr>
        <p:spPr>
          <a:xfrm>
            <a:off x="206280" y="565200"/>
            <a:ext cx="9498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2857680" y="1370160"/>
            <a:ext cx="4465440" cy="24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31640" indent="-32364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Identificación de los da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0000ff"/>
                </a:solidFill>
                <a:latin typeface="Times New Roman"/>
              </a:rPr>
              <a:t>CF = 750.000 eu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ff00ff"/>
                </a:solidFill>
                <a:latin typeface="Times New Roman"/>
              </a:rPr>
              <a:t>Cvu = 220 eu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P = 270 eu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731880" y="4048200"/>
            <a:ext cx="2868480" cy="13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C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Q*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P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 Cv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8"/>
          <p:cNvSpPr/>
          <p:nvPr/>
        </p:nvSpPr>
        <p:spPr>
          <a:xfrm>
            <a:off x="1752480" y="4711680"/>
            <a:ext cx="1667160" cy="1440"/>
          </a:xfrm>
          <a:prstGeom prst="line">
            <a:avLst/>
          </a:prstGeom>
          <a:ln w="360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6361200" y="4489560"/>
            <a:ext cx="324792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  15.000 móv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3164040" y="4048200"/>
            <a:ext cx="3315960" cy="13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75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27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2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1"/>
          <p:cNvSpPr/>
          <p:nvPr/>
        </p:nvSpPr>
        <p:spPr>
          <a:xfrm>
            <a:off x="4149720" y="4727520"/>
            <a:ext cx="2092320" cy="1800"/>
          </a:xfrm>
          <a:prstGeom prst="line">
            <a:avLst/>
          </a:prstGeom>
          <a:ln w="360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2"/>
          <p:cNvSpPr/>
          <p:nvPr/>
        </p:nvSpPr>
        <p:spPr>
          <a:xfrm>
            <a:off x="774720" y="5644080"/>
            <a:ext cx="860904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A partir de 15.000 teléfonos móviles vendidos la empresa comienza a obtener beneficios. Por tanto el Punto Muerto o Umbral de Rentabilidad es de 15.000 teléfono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13"/>
          <p:cNvSpPr/>
          <p:nvPr/>
        </p:nvSpPr>
        <p:spPr>
          <a:xfrm>
            <a:off x="544680" y="4014720"/>
            <a:ext cx="9134280" cy="1497240"/>
          </a:xfrm>
          <a:prstGeom prst="roundRect">
            <a:avLst>
              <a:gd name="adj" fmla="val 10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AutoShape 1"/>
          <p:cNvSpPr/>
          <p:nvPr/>
        </p:nvSpPr>
        <p:spPr>
          <a:xfrm>
            <a:off x="1089000" y="5664240"/>
            <a:ext cx="8012160" cy="1123920"/>
          </a:xfrm>
          <a:prstGeom prst="roundRect">
            <a:avLst>
              <a:gd name="adj" fmla="val 15958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08120" y="630360"/>
            <a:ext cx="8609040" cy="64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 Black"/>
              </a:rPr>
              <a:t>EJEMPLO PARA EL CÁLCULO DEL PUNTO MUER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5"/>
          <p:cNvSpPr/>
          <p:nvPr/>
        </p:nvSpPr>
        <p:spPr>
          <a:xfrm>
            <a:off x="206280" y="565200"/>
            <a:ext cx="9498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774720" y="5644080"/>
            <a:ext cx="860904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A partir de 15.000 teléfonos móviles vendidos la empresa comienza a obtener beneficios. Por tanto el Punto Muerto o Umbral de Rentabilidad es de 15.000 teléfono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Object 7"/>
          <p:cNvGraphicFramePr/>
          <p:nvPr/>
        </p:nvGraphicFramePr>
        <p:xfrm>
          <a:off x="765000" y="1325520"/>
          <a:ext cx="8283600" cy="408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5000" y="1325520"/>
                    <a:ext cx="828360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AutoShape 1"/>
          <p:cNvSpPr/>
          <p:nvPr/>
        </p:nvSpPr>
        <p:spPr>
          <a:xfrm>
            <a:off x="1089000" y="5664240"/>
            <a:ext cx="8012160" cy="1123920"/>
          </a:xfrm>
          <a:prstGeom prst="roundRect">
            <a:avLst>
              <a:gd name="adj" fmla="val 15958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08120" y="630360"/>
            <a:ext cx="8609040" cy="64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 Black"/>
              </a:rPr>
              <a:t>EJEMPLO PARA EL CÁLCULO DEL PUNTO MUER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5"/>
          <p:cNvSpPr/>
          <p:nvPr/>
        </p:nvSpPr>
        <p:spPr>
          <a:xfrm>
            <a:off x="228600" y="533520"/>
            <a:ext cx="9497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774720" y="5644080"/>
            <a:ext cx="860904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A partir de 15.000 teléfonos móviles vendidos la empresa comienza a obtener beneficios. Por tanto el Punto Muerto o Umbral de Rentabilidad es de 15.000 teléfono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Object 7"/>
          <p:cNvGraphicFramePr/>
          <p:nvPr/>
        </p:nvGraphicFramePr>
        <p:xfrm>
          <a:off x="630360" y="1276200"/>
          <a:ext cx="8589960" cy="450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1276200"/>
                    <a:ext cx="8589960" cy="450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AutoShape 1"/>
          <p:cNvSpPr/>
          <p:nvPr/>
        </p:nvSpPr>
        <p:spPr>
          <a:xfrm>
            <a:off x="825480" y="2351160"/>
            <a:ext cx="8300880" cy="1616040"/>
          </a:xfrm>
          <a:prstGeom prst="roundRect">
            <a:avLst>
              <a:gd name="adj" fmla="val 11097"/>
            </a:avLst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754200" y="2563200"/>
            <a:ext cx="8609040" cy="12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 Black"/>
              </a:rPr>
              <a:t>PUNTO MUERTO o UMBRAL DE RENTABIL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57080" y="826560"/>
            <a:ext cx="8609040" cy="15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 Black"/>
              </a:rPr>
              <a:t>PUNTO MUERTO o UMBRAL DE RENTABIL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AutoShape 2"/>
          <p:cNvSpPr/>
          <p:nvPr/>
        </p:nvSpPr>
        <p:spPr>
          <a:xfrm>
            <a:off x="690480" y="3924360"/>
            <a:ext cx="8739360" cy="1150920"/>
          </a:xfrm>
          <a:prstGeom prst="roundRect">
            <a:avLst>
              <a:gd name="adj" fmla="val 2875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690480" y="5219640"/>
            <a:ext cx="8739360" cy="1249560"/>
          </a:xfrm>
          <a:prstGeom prst="roundRect">
            <a:avLst>
              <a:gd name="adj" fmla="val 148"/>
            </a:avLst>
          </a:prstGeom>
          <a:solidFill>
            <a:srgbClr val="e6e6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0000ff"/>
                </a:solidFill>
                <a:latin typeface="Arial"/>
                <a:ea typeface="Arial"/>
              </a:rPr>
              <a:t>Permite conocer el volumen de ventas que es necesario para que la empresa o departamento cubra la totalidad de sus costes.</a:t>
            </a:r>
            <a:r>
              <a:rPr b="1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Se llama </a:t>
            </a:r>
            <a:r>
              <a:rPr b="1" i="1" lang="en-GB" sz="2800" spc="-1" strike="noStrike">
                <a:solidFill>
                  <a:srgbClr val="0000ff"/>
                </a:solidFill>
                <a:latin typeface="Arial"/>
                <a:ea typeface="Arial"/>
              </a:rPr>
              <a:t>Punto Muerto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porque en el la empresa no obtiene ni beneficios ni pérd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Es el </a:t>
            </a:r>
            <a:r>
              <a:rPr b="1" i="1" lang="en-GB" sz="2800" spc="-1" strike="noStrike">
                <a:solidFill>
                  <a:srgbClr val="0000ff"/>
                </a:solidFill>
                <a:latin typeface="Arial"/>
                <a:ea typeface="Arial"/>
              </a:rPr>
              <a:t>Umbral de Rentabilidad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porque a partir de ese punto la empresa empieza a obtener benefic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5"/>
          <p:cNvSpPr/>
          <p:nvPr/>
        </p:nvSpPr>
        <p:spPr>
          <a:xfrm>
            <a:off x="206280" y="565200"/>
            <a:ext cx="9498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741240" y="2139480"/>
            <a:ext cx="86090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 algn="just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0000ff"/>
                </a:solidFill>
                <a:latin typeface="Arial"/>
                <a:ea typeface="Arial"/>
              </a:rPr>
              <a:t>Depende 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0000ff"/>
                </a:solidFill>
                <a:latin typeface="Arial"/>
                <a:ea typeface="Arial"/>
              </a:rPr>
              <a:t>Los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INGRESOS</a:t>
            </a:r>
            <a:r>
              <a:rPr b="1" i="1" lang="en-GB" sz="2800" spc="-1" strike="noStrike">
                <a:solidFill>
                  <a:srgbClr val="0000ff"/>
                </a:solidFill>
                <a:latin typeface="Arial"/>
                <a:ea typeface="Arial"/>
              </a:rPr>
              <a:t> de la empresa, es decir el volumen de ventas realiza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 algn="just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0000ff"/>
                </a:solidFill>
                <a:latin typeface="Arial"/>
                <a:ea typeface="Arial"/>
              </a:rPr>
              <a:t>Los 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  <a:ea typeface="Arial"/>
              </a:rPr>
              <a:t>COSTES</a:t>
            </a:r>
            <a:r>
              <a:rPr b="1" i="1" lang="en-GB" sz="2800" spc="-1" strike="noStrike">
                <a:solidFill>
                  <a:srgbClr val="0000ff"/>
                </a:solidFill>
                <a:latin typeface="Arial"/>
                <a:ea typeface="Arial"/>
              </a:rPr>
              <a:t> de la empres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Costes fijos</a:t>
            </a:r>
            <a:r>
              <a:rPr b="1" i="1" lang="en-GB" sz="2400" spc="-1" strike="noStrike">
                <a:solidFill>
                  <a:srgbClr val="0000ff"/>
                </a:solidFill>
                <a:latin typeface="Arial"/>
                <a:ea typeface="Arial"/>
              </a:rPr>
              <a:t>, que son independientes del volumen de actividad, es decir del número de unidades vendidas (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Costes variables</a:t>
            </a:r>
            <a:r>
              <a:rPr b="1" i="1" lang="en-GB" sz="2400" spc="-1" strike="noStrike">
                <a:solidFill>
                  <a:srgbClr val="0000ff"/>
                </a:solidFill>
                <a:latin typeface="Arial"/>
                <a:ea typeface="Arial"/>
              </a:rPr>
              <a:t>, que aumentan con el volumen de actividad, a mayor producción mayores cos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2"/>
          <p:cNvSpPr/>
          <p:nvPr/>
        </p:nvSpPr>
        <p:spPr>
          <a:xfrm>
            <a:off x="206280" y="565200"/>
            <a:ext cx="9498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708120" y="630360"/>
            <a:ext cx="8609040" cy="64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 Black"/>
              </a:rPr>
              <a:t>CÁLCULO DEL PUNTO MUER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27200" y="1968480"/>
            <a:ext cx="420048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INGRESO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I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 P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 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on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= Precio de venta por 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Cantidad vend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137200" y="1915920"/>
            <a:ext cx="4200480" cy="47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COS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C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 CF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 C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on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CV</a:t>
            </a:r>
            <a:r>
              <a:rPr b="1" lang="en-GB" sz="24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GB" sz="2400" spc="-1" strike="noStrike">
                <a:solidFill>
                  <a:srgbClr val="ff00ff"/>
                </a:solidFill>
                <a:latin typeface="Arial"/>
              </a:rPr>
              <a:t> Cvu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GB" sz="2400" spc="-1" strike="noStrike">
                <a:solidFill>
                  <a:srgbClr val="ff00ff"/>
                </a:solidFill>
                <a:latin typeface="Arial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CF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= Costes Fij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CV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= Costes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00ff"/>
                </a:solidFill>
                <a:latin typeface="Arial"/>
              </a:rPr>
              <a:t>Cvu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= Coste variable por 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3"/>
          <p:cNvSpPr/>
          <p:nvPr/>
        </p:nvSpPr>
        <p:spPr>
          <a:xfrm>
            <a:off x="4578480" y="1847880"/>
            <a:ext cx="1440" cy="4387680"/>
          </a:xfrm>
          <a:prstGeom prst="line">
            <a:avLst/>
          </a:prstGeom>
          <a:ln w="72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4"/>
          <p:cNvSpPr/>
          <p:nvPr/>
        </p:nvSpPr>
        <p:spPr>
          <a:xfrm>
            <a:off x="206280" y="565200"/>
            <a:ext cx="9498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title"/>
          </p:nvPr>
        </p:nvSpPr>
        <p:spPr>
          <a:xfrm>
            <a:off x="708120" y="630360"/>
            <a:ext cx="8609040" cy="64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 Black"/>
              </a:rPr>
              <a:t>CÁLCULO DEL PUNTO MUER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798480" y="1717200"/>
            <a:ext cx="860904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GRESOS = COS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P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 Q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 CF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 C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P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 Q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 CF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 Cvu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 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Despejando Q, obtenemos el punto Q* para el que los beneficios son nulos (B=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2"/>
          <p:cNvSpPr/>
          <p:nvPr/>
        </p:nvSpPr>
        <p:spPr>
          <a:xfrm>
            <a:off x="2881440" y="2189160"/>
            <a:ext cx="4574880" cy="739800"/>
          </a:xfrm>
          <a:prstGeom prst="roundRect">
            <a:avLst>
              <a:gd name="adj" fmla="val 2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6245280" y="3635280"/>
            <a:ext cx="31636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Es decir Beneficio = 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4"/>
          <p:cNvSpPr/>
          <p:nvPr/>
        </p:nvSpPr>
        <p:spPr>
          <a:xfrm>
            <a:off x="206280" y="565200"/>
            <a:ext cx="9498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708120" y="630360"/>
            <a:ext cx="8609040" cy="64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 Black"/>
              </a:rPr>
              <a:t>CÁLCULO DEL PUNTO MUER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809640" y="1717200"/>
            <a:ext cx="860904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I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P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 Q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 CF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 Cvu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 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P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 Q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 Cvu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 Q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 C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Q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P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 Cvu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 C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3606840" y="4881600"/>
            <a:ext cx="2824200" cy="13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C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Q*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P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 Cv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3"/>
          <p:cNvSpPr/>
          <p:nvPr/>
        </p:nvSpPr>
        <p:spPr>
          <a:xfrm>
            <a:off x="4592520" y="5562720"/>
            <a:ext cx="1667160" cy="1440"/>
          </a:xfrm>
          <a:prstGeom prst="line">
            <a:avLst/>
          </a:prstGeom>
          <a:ln w="360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4"/>
          <p:cNvSpPr/>
          <p:nvPr/>
        </p:nvSpPr>
        <p:spPr>
          <a:xfrm>
            <a:off x="2789280" y="4643280"/>
            <a:ext cx="4506840" cy="1957680"/>
          </a:xfrm>
          <a:prstGeom prst="roundRect">
            <a:avLst>
              <a:gd name="adj" fmla="val 8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5"/>
          <p:cNvSpPr/>
          <p:nvPr/>
        </p:nvSpPr>
        <p:spPr>
          <a:xfrm>
            <a:off x="206280" y="565200"/>
            <a:ext cx="9498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708120" y="630360"/>
            <a:ext cx="8609040" cy="64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 Black"/>
              </a:rPr>
              <a:t>CÁLCULO DEL PUNTO MUER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Line 1"/>
          <p:cNvSpPr/>
          <p:nvPr/>
        </p:nvSpPr>
        <p:spPr>
          <a:xfrm>
            <a:off x="206280" y="565200"/>
            <a:ext cx="9498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4"/>
          <p:cNvSpPr/>
          <p:nvPr/>
        </p:nvSpPr>
        <p:spPr>
          <a:xfrm>
            <a:off x="1785960" y="6208560"/>
            <a:ext cx="6599160" cy="1800"/>
          </a:xfrm>
          <a:prstGeom prst="line">
            <a:avLst/>
          </a:prstGeom>
          <a:ln w="720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5"/>
          <p:cNvSpPr/>
          <p:nvPr/>
        </p:nvSpPr>
        <p:spPr>
          <a:xfrm flipH="1" flipV="1">
            <a:off x="1801440" y="2244240"/>
            <a:ext cx="12600" cy="3940200"/>
          </a:xfrm>
          <a:prstGeom prst="line">
            <a:avLst/>
          </a:prstGeom>
          <a:ln w="720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6"/>
          <p:cNvSpPr/>
          <p:nvPr/>
        </p:nvSpPr>
        <p:spPr>
          <a:xfrm flipV="1">
            <a:off x="1820880" y="1852560"/>
            <a:ext cx="5000760" cy="4340160"/>
          </a:xfrm>
          <a:prstGeom prst="line">
            <a:avLst/>
          </a:prstGeom>
          <a:ln w="720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6939000" y="1631880"/>
            <a:ext cx="6476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8504280" y="6021360"/>
            <a:ext cx="6476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1770120" y="1836720"/>
            <a:ext cx="6476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10"/>
          <p:cNvSpPr/>
          <p:nvPr/>
        </p:nvSpPr>
        <p:spPr>
          <a:xfrm>
            <a:off x="6054840" y="2720880"/>
            <a:ext cx="884160" cy="612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6991200" y="3247920"/>
            <a:ext cx="23990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Curva de Ingre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08120" y="630360"/>
            <a:ext cx="8609040" cy="64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 Black"/>
              </a:rPr>
              <a:t>REPRESENTACIÓN GRÁFICA DEL PUNTO MUER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1"/>
          <p:cNvSpPr/>
          <p:nvPr/>
        </p:nvSpPr>
        <p:spPr>
          <a:xfrm>
            <a:off x="206280" y="565200"/>
            <a:ext cx="9498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4"/>
          <p:cNvSpPr/>
          <p:nvPr/>
        </p:nvSpPr>
        <p:spPr>
          <a:xfrm>
            <a:off x="1785960" y="6208560"/>
            <a:ext cx="6599160" cy="1800"/>
          </a:xfrm>
          <a:prstGeom prst="line">
            <a:avLst/>
          </a:prstGeom>
          <a:ln w="720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5"/>
          <p:cNvSpPr/>
          <p:nvPr/>
        </p:nvSpPr>
        <p:spPr>
          <a:xfrm flipH="1" flipV="1">
            <a:off x="1801440" y="2244240"/>
            <a:ext cx="12600" cy="3940200"/>
          </a:xfrm>
          <a:prstGeom prst="line">
            <a:avLst/>
          </a:prstGeom>
          <a:ln w="720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6"/>
          <p:cNvSpPr/>
          <p:nvPr/>
        </p:nvSpPr>
        <p:spPr>
          <a:xfrm>
            <a:off x="1836720" y="5170320"/>
            <a:ext cx="5681520" cy="1800"/>
          </a:xfrm>
          <a:prstGeom prst="line">
            <a:avLst/>
          </a:prstGeom>
          <a:ln w="72000">
            <a:solidFill>
              <a:srgbClr val="99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7"/>
          <p:cNvSpPr/>
          <p:nvPr/>
        </p:nvSpPr>
        <p:spPr>
          <a:xfrm flipV="1">
            <a:off x="1836720" y="2430000"/>
            <a:ext cx="5646600" cy="2724120"/>
          </a:xfrm>
          <a:prstGeom prst="line">
            <a:avLst/>
          </a:prstGeom>
          <a:ln w="72000">
            <a:solidFill>
              <a:srgbClr val="6b00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7075440" y="2755800"/>
            <a:ext cx="6476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8504280" y="6021360"/>
            <a:ext cx="6476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1735200" y="1836720"/>
            <a:ext cx="6476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7126200" y="5289480"/>
            <a:ext cx="6476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7551720" y="2246400"/>
            <a:ext cx="6476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13"/>
          <p:cNvSpPr/>
          <p:nvPr/>
        </p:nvSpPr>
        <p:spPr>
          <a:xfrm>
            <a:off x="5816520" y="3384720"/>
            <a:ext cx="1327320" cy="510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14"/>
          <p:cNvSpPr/>
          <p:nvPr/>
        </p:nvSpPr>
        <p:spPr>
          <a:xfrm flipV="1">
            <a:off x="5732640" y="3876840"/>
            <a:ext cx="1411200" cy="1211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5"/>
          <p:cNvSpPr/>
          <p:nvPr/>
        </p:nvSpPr>
        <p:spPr>
          <a:xfrm>
            <a:off x="7229520" y="3691080"/>
            <a:ext cx="200664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Curva de Costes To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6"/>
          <p:cNvSpPr/>
          <p:nvPr/>
        </p:nvSpPr>
        <p:spPr>
          <a:xfrm>
            <a:off x="7364520" y="4354560"/>
            <a:ext cx="231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T = CF + C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08120" y="630360"/>
            <a:ext cx="8609040" cy="64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 Black"/>
              </a:rPr>
              <a:t>REPRESENTACIÓN GRÁFICA DEL PUNTO MUER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1"/>
          <p:cNvSpPr/>
          <p:nvPr/>
        </p:nvSpPr>
        <p:spPr>
          <a:xfrm>
            <a:off x="206280" y="565200"/>
            <a:ext cx="9498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4"/>
          <p:cNvSpPr/>
          <p:nvPr/>
        </p:nvSpPr>
        <p:spPr>
          <a:xfrm>
            <a:off x="1785960" y="6208560"/>
            <a:ext cx="6599160" cy="1800"/>
          </a:xfrm>
          <a:prstGeom prst="line">
            <a:avLst/>
          </a:prstGeom>
          <a:ln w="720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5"/>
          <p:cNvSpPr/>
          <p:nvPr/>
        </p:nvSpPr>
        <p:spPr>
          <a:xfrm flipH="1" flipV="1">
            <a:off x="1801440" y="2244240"/>
            <a:ext cx="12600" cy="3940200"/>
          </a:xfrm>
          <a:prstGeom prst="line">
            <a:avLst/>
          </a:prstGeom>
          <a:ln w="720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6"/>
          <p:cNvSpPr/>
          <p:nvPr/>
        </p:nvSpPr>
        <p:spPr>
          <a:xfrm>
            <a:off x="1836720" y="5170320"/>
            <a:ext cx="5681520" cy="1800"/>
          </a:xfrm>
          <a:prstGeom prst="line">
            <a:avLst/>
          </a:prstGeom>
          <a:ln w="72000">
            <a:solidFill>
              <a:srgbClr val="99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7"/>
          <p:cNvSpPr/>
          <p:nvPr/>
        </p:nvSpPr>
        <p:spPr>
          <a:xfrm flipV="1">
            <a:off x="1836720" y="2430000"/>
            <a:ext cx="5646600" cy="2724120"/>
          </a:xfrm>
          <a:prstGeom prst="line">
            <a:avLst/>
          </a:prstGeom>
          <a:ln w="72000">
            <a:solidFill>
              <a:srgbClr val="99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8"/>
          <p:cNvSpPr/>
          <p:nvPr/>
        </p:nvSpPr>
        <p:spPr>
          <a:xfrm flipV="1">
            <a:off x="1820880" y="1852560"/>
            <a:ext cx="5000760" cy="4340160"/>
          </a:xfrm>
          <a:prstGeom prst="line">
            <a:avLst/>
          </a:prstGeom>
          <a:ln w="720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6939000" y="1631880"/>
            <a:ext cx="6476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6072120" y="3435480"/>
            <a:ext cx="3402000" cy="10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66"/>
                </a:solidFill>
                <a:latin typeface="Times New Roman"/>
              </a:rPr>
              <a:t>Volumen de Producción (Q*) para el que coinciden Ingresos y Costes ( I = C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8504280" y="6021360"/>
            <a:ext cx="6476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1582560" y="1836720"/>
            <a:ext cx="648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,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13"/>
          <p:cNvSpPr/>
          <p:nvPr/>
        </p:nvSpPr>
        <p:spPr>
          <a:xfrm>
            <a:off x="4491000" y="3860640"/>
            <a:ext cx="1800" cy="234792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4354560" y="6327720"/>
            <a:ext cx="6476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5"/>
          <p:cNvSpPr/>
          <p:nvPr/>
        </p:nvSpPr>
        <p:spPr>
          <a:xfrm>
            <a:off x="4610160" y="3911760"/>
            <a:ext cx="134460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6"/>
          <p:cNvSpPr/>
          <p:nvPr/>
        </p:nvSpPr>
        <p:spPr>
          <a:xfrm>
            <a:off x="7551720" y="2246400"/>
            <a:ext cx="6476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8120" y="630360"/>
            <a:ext cx="8609040" cy="64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 Black"/>
              </a:rPr>
              <a:t>REPRESENTACIÓN GRÁFICA DEL PUNTO MUER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ibel</cp:lastModifiedBy>
  <dcterms:modified xsi:type="dcterms:W3CDTF">2011-09-05T16:02:07Z</dcterms:modified>
  <cp:revision>18</cp:revision>
  <dc:subject/>
  <dc:title>PUNTO MUERTO O UMBRAL DE RENTABILIDAD</dc:title>
</cp:coreProperties>
</file>